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D7E-8C52-4C56-B4A8-37BD4142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865-2EF7-447A-B1E6-3E04D1A7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312-92B6-4C5A-A27C-659BC01A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BEB-BB57-458E-ADC3-77E3892B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371-890E-4C4B-BCA4-12F569AC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014-80B7-4B5F-914F-A0DAFE80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25B-60CD-4441-B86E-08A4B8C9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411-F391-468F-8E6D-4BB5F13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641-CFC5-400D-95E4-BCAC4725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C40-6A0F-4FC5-8F37-0DF44B71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61D-E2DA-40E3-A994-6BF1360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E7E-733D-4DAD-B265-3E53DBD7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6241-CBE6-47FF-BD0A-1CF363AC3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352680" y="0"/>
            <a:ext cx="541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oat tries to cross a 100 m wide river. The boat’s engine can move it at 2 m/s and the river flows at 5 m/s. Find the  resultant velocity, trajectory  displacement aof the boat and time to cross the ri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219320" y="7621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124080" y="762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7160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76720" y="3048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iver = 5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143000" y="2514600"/>
            <a:ext cx="457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0492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8088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32004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52680" y="0"/>
            <a:ext cx="541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oat tries to cross a 100 m wide river. The boat’s engine can move it at 2 m/s and the river flows at 5 m/s. Find the  resultant velocity, trajectory  displacement aof the boat and time to cross the ri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219320" y="7621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3124080" y="762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7160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76720" y="3048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iver = 5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143000" y="2514600"/>
            <a:ext cx="457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0492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8088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32004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3:52:49Z</dcterms:created>
  <dc:creator>socsd</dc:creator>
  <dc:description/>
  <dc:language>en-US</dc:language>
  <cp:lastModifiedBy>"%username%"</cp:lastModifiedBy>
  <cp:lastPrinted>2014-11-07T15:23:38Z</cp:lastPrinted>
  <dcterms:modified xsi:type="dcterms:W3CDTF">2014-11-07T15:23:53Z</dcterms:modified>
  <cp:revision>5</cp:revision>
  <dc:subject/>
  <dc:title>PowerPoint Presentation</dc:title>
</cp:coreProperties>
</file>